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013-38FA-4023-B456-E194A865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D3B-BE3F-417F-90D9-B961D6A5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F63-5837-4C09-9C5E-60667645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754-34AF-4DE4-B6CA-EC6B97D7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8254-1082-4A89-86C1-7BC04ADF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7C12D-22EB-4601-A1BC-C33F9427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DC1D5-62F1-4769-AD90-880931A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58F6B-F763-4DD0-B724-62F63DF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E2F24-AD92-42B9-8F30-BBB8AF1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37A62-1271-4AE7-90DE-333A866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9A569-47C8-482D-975A-C8EA002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61E-1D5E-48F1-BF6C-EA030161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9C536-134D-453B-8097-800CB3D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B52F-7520-45F5-9083-4AD26EF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26488-ACFB-45B4-8E8A-67AE770E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9AE1D-EB5F-484C-8FA6-51418484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F9CC-E9E0-4585-A4E7-E15AAB1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931B-42BB-47DA-BF61-1D436797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03D1-0844-4878-B170-1B36908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F3DD-1D1F-4EA8-AAEA-9719874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D2D0-7CEC-46E2-AC10-2AB3F1A2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0DC5-AB70-4A72-B30B-5F87AEF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ED3-54F3-4495-995D-1BEA144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88E7-C2C4-4C6F-A246-619A520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F08C-C67F-4AFC-85DD-F02F56D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442E-D411-43EF-B315-8F0805D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C7B6-0F3E-4E02-A854-18B3559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53C5-F4AE-429A-90B9-9592A0C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81D1-D91D-43D3-8935-5DE2799F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46A3-90A3-46CC-81E9-4F4960E5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067-6941-4BF4-950F-EFB168A5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812-832D-4C28-85FC-333EFEB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61F-D2C0-46AB-8C06-F9AE4841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6FA-E928-4927-B53C-F8B8048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6C-FAA8-41DA-9516-83FB93A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7FB-31F4-41A4-A3F3-3AF3F5A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DEB6-B252-4FC9-B03E-2C293508CD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616-B1D5-4EAD-8518-A5BB3FEF919E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0C5C-0D61-4574-A91A-A48CFED05AF8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5480" y="162792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velopment of New Online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or Super-Kamioka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6120" y="501336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山田 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4360" y="69228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BatangChe"/>
              </a:rPr>
              <a:t>Status monitor &amp; Data flow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557360"/>
            <a:ext cx="357012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600" y="2036880"/>
            <a:ext cx="3094200" cy="1596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54600" y="2197080"/>
            <a:ext cx="103032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04240" y="2197080"/>
            <a:ext cx="102996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30880" y="3633840"/>
            <a:ext cx="11113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14840" y="4911840"/>
            <a:ext cx="142884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104240" y="4911840"/>
            <a:ext cx="142848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71720" y="3952800"/>
            <a:ext cx="3095640" cy="1677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69880" y="2036880"/>
            <a:ext cx="2141640" cy="317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t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1557360"/>
            <a:ext cx="35701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twork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07240" y="2435400"/>
            <a:ext cx="21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eck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alive or d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art /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90680" y="3952800"/>
            <a:ext cx="2538360" cy="395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flow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4800" y="4511520"/>
            <a:ext cx="25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ol distrib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67000" y="2914560"/>
            <a:ext cx="158724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087800" y="2674800"/>
            <a:ext cx="16668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87800" y="23544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09480" y="249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5640" y="20606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8922200">
            <a:off x="3776040" y="342828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ze of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46560" y="2994120"/>
            <a:ext cx="1984320" cy="18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158600">
            <a:off x="4135680" y="364464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ll destin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67000" y="5389560"/>
            <a:ext cx="134748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57160" y="53006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of process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2924280"/>
            <a:ext cx="14292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092720" y="2924280"/>
            <a:ext cx="21564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156360" y="4292640"/>
            <a:ext cx="50328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77080" y="4292640"/>
            <a:ext cx="86364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3920" y="50328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4, Aiming at dead time fre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1484280"/>
            <a:ext cx="57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ead time as much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nova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5640" y="23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000" y="256536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Quick exchange of the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160" y="350028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High availabilit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5084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and b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9160" y="42210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installed inside of the 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x the trouble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405080" y="465300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79240" y="47242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2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30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43280" y="5805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48360" y="54936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21800" y="6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484000" y="4078440"/>
            <a:ext cx="3240" cy="50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00520" y="59292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76880" y="4149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465300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21800" y="4726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48360" y="2349360"/>
            <a:ext cx="18000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1800" y="24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6623640" y="2889360"/>
            <a:ext cx="23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6699240" y="2962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48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05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05080" y="54936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1121760" y="15256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980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166608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3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16900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9240" y="6206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22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30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308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43280" y="17017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00520" y="18255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05080" y="234792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79240" y="24192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2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30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3088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43280" y="35002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00520" y="36241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-541080" y="3141720"/>
            <a:ext cx="2233440" cy="502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-501480" y="321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24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4360" y="4508640"/>
            <a:ext cx="0" cy="19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4360" y="6453360"/>
            <a:ext cx="446400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8360" y="5661000"/>
            <a:ext cx="1800000" cy="865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1800" y="5734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8360" y="6669000"/>
            <a:ext cx="676764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8360" y="4508640"/>
            <a:ext cx="0" cy="2160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26920" y="4365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16000" y="4365720"/>
            <a:ext cx="0" cy="57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6920" y="2637000"/>
            <a:ext cx="57816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4941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765000"/>
            <a:ext cx="0" cy="165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765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6920" y="2421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48360" y="4869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48360" y="256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48360" y="76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36000" y="765000"/>
            <a:ext cx="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6000" y="24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6000" y="4149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23600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67640" y="4292640"/>
            <a:ext cx="0" cy="1441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885080" y="4292640"/>
            <a:ext cx="0" cy="1657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88000" y="76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8800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37440" y="5948280"/>
            <a:ext cx="1800360" cy="865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10880" y="602136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-425880" y="5519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backup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28000" y="292428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7840080" y="27259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549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5240" y="476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2888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348516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3216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398844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560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18188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2888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168480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196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355824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406152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560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118188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168480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3485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3216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398844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0524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261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226116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89000" y="4046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5, Current Status of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29520" y="4581360"/>
            <a:ext cx="9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oward Joint-test with new electronics in summer</a:t>
            </a:r>
            <a:r>
              <a:rPr b="0" lang="ja-JP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20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5400" y="112536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Start development from upstrea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53920" y="2666880"/>
            <a:ext cx="30848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7520" y="2666880"/>
            <a:ext cx="26240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5084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0680" y="22874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84160" y="22874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47760" y="1844640"/>
            <a:ext cx="19018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82840" y="1844640"/>
            <a:ext cx="19036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18280" y="1844640"/>
            <a:ext cx="190152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35080" y="298296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72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5476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35560" y="298296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528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38760" y="3362400"/>
            <a:ext cx="788760" cy="315720"/>
          </a:xfrm>
          <a:prstGeom prst="rightArrow">
            <a:avLst>
              <a:gd name="adj1" fmla="val 50000"/>
              <a:gd name="adj2" fmla="val 624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5156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200" y="2603520"/>
            <a:ext cx="4987800" cy="822240"/>
          </a:xfrm>
          <a:prstGeom prst="rightArrow">
            <a:avLst>
              <a:gd name="adj1" fmla="val 58824"/>
              <a:gd name="adj2" fmla="val 6967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636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7852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35640" y="5877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27800" y="51577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5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03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8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1128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19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24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27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32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35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40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43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4836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45164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59640" y="60213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76360" y="6210360"/>
            <a:ext cx="576360" cy="647640"/>
          </a:xfrm>
          <a:prstGeom prst="upArrowCallout">
            <a:avLst>
              <a:gd name="adj1" fmla="val 13761"/>
              <a:gd name="adj2" fmla="val 25000"/>
              <a:gd name="adj3" fmla="val 18795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508464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44960" y="34920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</a:rPr>
              <a:t>Test of the prototype in Front End PC(FE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5600" y="2386080"/>
            <a:ext cx="7921440" cy="42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596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1120" y="29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960" y="4154400"/>
            <a:ext cx="1176120" cy="6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225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24240" y="3881520"/>
            <a:ext cx="3797280" cy="108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06680" y="6058080"/>
            <a:ext cx="1832040" cy="474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44600" y="2997360"/>
            <a:ext cx="11444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0080" y="44244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08040" y="4765680"/>
            <a:ext cx="189864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2252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33920" y="5310360"/>
            <a:ext cx="1046160" cy="406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4632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1320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92560" y="497052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92560" y="571824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23400" y="31320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12360" y="5513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0188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908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7056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3564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02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406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29560" y="340524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502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406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29560" y="361008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502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06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29560" y="381312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02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406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29560" y="401796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02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406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29560" y="4221000"/>
            <a:ext cx="5889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02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29560" y="4560840"/>
            <a:ext cx="588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406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8040" y="2657520"/>
            <a:ext cx="20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23094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28332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33584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38822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5400000">
            <a:off x="44060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545220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58440" y="437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9480" y="50385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39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7844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9256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5600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7844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1320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256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564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012840" y="2928960"/>
            <a:ext cx="3862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4192200" y="2928960"/>
            <a:ext cx="327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5502240" y="2928960"/>
            <a:ext cx="248616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620800" y="2317680"/>
            <a:ext cx="262080" cy="339480"/>
            <a:chOff x="2620800" y="2317680"/>
            <a:chExt cx="262080" cy="339480"/>
          </a:xfrm>
        </p:grpSpPr>
        <p:sp>
          <p:nvSpPr>
            <p:cNvPr id="902" name=""/>
            <p:cNvSpPr/>
            <p:nvPr/>
          </p:nvSpPr>
          <p:spPr>
            <a:xfrm>
              <a:off x="262080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98720" y="2317680"/>
            <a:ext cx="262080" cy="339480"/>
            <a:chOff x="3798720" y="2317680"/>
            <a:chExt cx="262080" cy="339480"/>
          </a:xfrm>
        </p:grpSpPr>
        <p:sp>
          <p:nvSpPr>
            <p:cNvPr id="908" name=""/>
            <p:cNvSpPr/>
            <p:nvPr/>
          </p:nvSpPr>
          <p:spPr>
            <a:xfrm>
              <a:off x="379872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9872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9872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9872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9872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043600" y="2317680"/>
            <a:ext cx="260280" cy="339480"/>
            <a:chOff x="5043600" y="2317680"/>
            <a:chExt cx="260280" cy="339480"/>
          </a:xfrm>
        </p:grpSpPr>
        <p:sp>
          <p:nvSpPr>
            <p:cNvPr id="914" name=""/>
            <p:cNvSpPr/>
            <p:nvPr/>
          </p:nvSpPr>
          <p:spPr>
            <a:xfrm>
              <a:off x="5043600" y="2317680"/>
              <a:ext cx="2602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43600" y="2385000"/>
              <a:ext cx="2602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0" y="2454120"/>
              <a:ext cx="2602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43600" y="2521080"/>
              <a:ext cx="2602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43600" y="2590200"/>
              <a:ext cx="2602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67680" y="1996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476520" y="5013360"/>
            <a:ext cx="262080" cy="1428480"/>
            <a:chOff x="3476520" y="5013360"/>
            <a:chExt cx="262080" cy="1428480"/>
          </a:xfrm>
        </p:grpSpPr>
        <p:sp>
          <p:nvSpPr>
            <p:cNvPr id="921" name=""/>
            <p:cNvSpPr/>
            <p:nvPr/>
          </p:nvSpPr>
          <p:spPr>
            <a:xfrm>
              <a:off x="3476520" y="501336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76520" y="51498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76520" y="508212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76520" y="528768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76520" y="5220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76520" y="542232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6520" y="5355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76520" y="5559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76520" y="549144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6520" y="5695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76520" y="5627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76520" y="5830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76520" y="5762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76520" y="596664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76520" y="589932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76520" y="6103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76520" y="6035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6520" y="6238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6520" y="6170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76520" y="637488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76520" y="630720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971640" y="981000"/>
            <a:ext cx="6985080" cy="576360"/>
            <a:chOff x="971640" y="981000"/>
            <a:chExt cx="6985080" cy="576360"/>
          </a:xfrm>
        </p:grpSpPr>
        <p:sp>
          <p:nvSpPr>
            <p:cNvPr id="943" name=""/>
            <p:cNvSpPr/>
            <p:nvPr/>
          </p:nvSpPr>
          <p:spPr>
            <a:xfrm>
              <a:off x="971640" y="981000"/>
              <a:ext cx="6985080" cy="576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35360" y="995400"/>
              <a:ext cx="68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 data from 30 Qbee and sort them in time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332000" y="1052640"/>
            <a:ext cx="5832360" cy="647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5040" y="333360"/>
            <a:ext cx="88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Transfer speed from daughter board of QB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4716360" y="3595680"/>
            <a:ext cx="3959280" cy="32623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539640" y="3446640"/>
            <a:ext cx="4140360" cy="341136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851280" y="2565360"/>
            <a:ext cx="144000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43640" y="2421000"/>
            <a:ext cx="1440000" cy="93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91280" y="292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6400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440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MB/s@10kHz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580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00760" y="112536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1Gbps( &gt; 45MB/s) has been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92360" y="2255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32000" y="2708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3200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32000" y="28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32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71640" y="2205000"/>
            <a:ext cx="136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57760" y="2421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41800" y="2276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8640" y="18414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seudo-rando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4346640" y="2905200"/>
            <a:ext cx="4797360" cy="3952800"/>
            <a:chOff x="4346640" y="2905200"/>
            <a:chExt cx="4797360" cy="395280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4346640" y="2905200"/>
              <a:ext cx="479736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5364000" y="4921560"/>
              <a:ext cx="31528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448956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5MBytes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68360" y="1413000"/>
            <a:ext cx="3672000" cy="1368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3960" y="479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orting spe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880" y="1557360"/>
            <a:ext cx="34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77MB/s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&gt; 4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5280" y="3645000"/>
            <a:ext cx="30243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rting process is bottleneck in FEPC, but the rate above 45MB/s is achieved in the prototyp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720" y="1125360"/>
            <a:ext cx="308448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0" y="141300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3880" y="144144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24720" y="141300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2360" y="16286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03240" y="692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62720" y="476280"/>
            <a:ext cx="46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Prototype in Merger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llect data in a time window from Every FEPC to on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* The time window should be overl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ata is merged in time order and sent to Software trig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7040" y="5925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3680" y="4998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3680" y="4132440"/>
            <a:ext cx="2714760" cy="742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003040" y="6111720"/>
            <a:ext cx="680760" cy="341640"/>
            <a:chOff x="2003040" y="6111720"/>
            <a:chExt cx="680760" cy="341640"/>
          </a:xfrm>
        </p:grpSpPr>
        <p:sp>
          <p:nvSpPr>
            <p:cNvPr id="987" name=""/>
            <p:cNvSpPr/>
            <p:nvPr/>
          </p:nvSpPr>
          <p:spPr>
            <a:xfrm rot="5400000">
              <a:off x="22942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00000">
              <a:off x="21981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5400000">
              <a:off x="2149920" y="6258240"/>
              <a:ext cx="34164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5400000">
              <a:off x="2075760" y="6232680"/>
              <a:ext cx="34164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5400000">
              <a:off x="2004480" y="6258240"/>
              <a:ext cx="34164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5400000">
              <a:off x="19054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5400000">
              <a:off x="2463840" y="6233400"/>
              <a:ext cx="3416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5400000">
              <a:off x="23889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003040" y="5183280"/>
            <a:ext cx="680760" cy="342720"/>
            <a:chOff x="2003040" y="5183280"/>
            <a:chExt cx="680760" cy="342720"/>
          </a:xfrm>
        </p:grpSpPr>
        <p:sp>
          <p:nvSpPr>
            <p:cNvPr id="996" name=""/>
            <p:cNvSpPr/>
            <p:nvPr/>
          </p:nvSpPr>
          <p:spPr>
            <a:xfrm rot="5400000">
              <a:off x="22935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5400000">
              <a:off x="21974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5400000">
              <a:off x="2149560" y="533052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2075400" y="530496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5400000">
              <a:off x="2004120" y="533052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19047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5400000">
              <a:off x="2463120" y="530532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23882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003040" y="4317840"/>
            <a:ext cx="680760" cy="343080"/>
            <a:chOff x="2003040" y="4317840"/>
            <a:chExt cx="680760" cy="343080"/>
          </a:xfrm>
        </p:grpSpPr>
        <p:sp>
          <p:nvSpPr>
            <p:cNvPr id="1005" name=""/>
            <p:cNvSpPr/>
            <p:nvPr/>
          </p:nvSpPr>
          <p:spPr>
            <a:xfrm rot="5400000">
              <a:off x="22935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5400000">
              <a:off x="21974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5400000">
              <a:off x="2149200" y="4465080"/>
              <a:ext cx="34308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400000">
              <a:off x="2075040" y="4439520"/>
              <a:ext cx="34308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2003760" y="4465080"/>
              <a:ext cx="34308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19047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5400000">
              <a:off x="2463120" y="4440240"/>
              <a:ext cx="3430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5400000">
              <a:off x="23882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93680" y="320364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62080" y="2276640"/>
            <a:ext cx="1033560" cy="55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7040" y="2338560"/>
            <a:ext cx="103356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03400" y="2338560"/>
            <a:ext cx="905040" cy="493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001600" y="3389400"/>
            <a:ext cx="680400" cy="342720"/>
            <a:chOff x="2001600" y="3389400"/>
            <a:chExt cx="680400" cy="342720"/>
          </a:xfrm>
        </p:grpSpPr>
        <p:sp>
          <p:nvSpPr>
            <p:cNvPr id="1018" name=""/>
            <p:cNvSpPr/>
            <p:nvPr/>
          </p:nvSpPr>
          <p:spPr>
            <a:xfrm rot="5400000">
              <a:off x="22921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400000">
              <a:off x="21956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2147760" y="353664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400000">
              <a:off x="2073960" y="351108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400000">
              <a:off x="2002320" y="353664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19033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2461320" y="351144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5400000">
              <a:off x="23864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rot="5400000">
            <a:off x="1521720" y="3486960"/>
            <a:ext cx="34272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5400000">
            <a:off x="142344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5400000">
            <a:off x="1371960" y="3535920"/>
            <a:ext cx="34272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5400000">
            <a:off x="1298160" y="3511440"/>
            <a:ext cx="34272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5400000">
            <a:off x="12258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5400000">
            <a:off x="1128240" y="3487680"/>
            <a:ext cx="342720" cy="14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5400000">
            <a:off x="1693440" y="35114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5400000">
            <a:off x="162036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5400000">
            <a:off x="6851880" y="5614200"/>
            <a:ext cx="3412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6687360" y="5761800"/>
            <a:ext cx="341280" cy="5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5400000">
            <a:off x="6508080" y="5634000"/>
            <a:ext cx="341280" cy="30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5400000">
            <a:off x="6333480" y="576252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5400000">
            <a:off x="6105600" y="5585040"/>
            <a:ext cx="341280" cy="40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5400000">
            <a:off x="7123320" y="5738040"/>
            <a:ext cx="3412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5400000">
            <a:off x="7048800" y="576180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5400000">
            <a:off x="1557000" y="4414680"/>
            <a:ext cx="3430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1459440" y="446148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1406880" y="4463280"/>
            <a:ext cx="3430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1333080" y="4438800"/>
            <a:ext cx="3430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1262520" y="446328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1164240" y="4413960"/>
            <a:ext cx="3430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730160" y="443844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1655280" y="44625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811440" y="4418640"/>
            <a:ext cx="3412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712800" y="44654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662760" y="4467960"/>
            <a:ext cx="3412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588240" y="4442400"/>
            <a:ext cx="3412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5400000">
            <a:off x="516960" y="44668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5400000">
            <a:off x="418320" y="4418640"/>
            <a:ext cx="3412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5400000">
            <a:off x="983520" y="44424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908280" y="44661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558080" y="5280840"/>
            <a:ext cx="3412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1460520" y="53276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1407600" y="5329080"/>
            <a:ext cx="3412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1333800" y="5304600"/>
            <a:ext cx="3412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5400000">
            <a:off x="1263240" y="53290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5400000">
            <a:off x="1165320" y="5280120"/>
            <a:ext cx="3412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5400000">
            <a:off x="1731240" y="53046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5400000">
            <a:off x="1656000" y="53283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810720" y="528480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5400000">
            <a:off x="712080" y="533160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5400000">
            <a:off x="662040" y="533412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5400000">
            <a:off x="587520" y="530856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5400000">
            <a:off x="516240" y="53330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417600" y="528480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982800" y="530856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907560" y="53323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1557720" y="6209280"/>
            <a:ext cx="34164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1460160" y="6256080"/>
            <a:ext cx="34164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1407600" y="6257880"/>
            <a:ext cx="34164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1333800" y="6233400"/>
            <a:ext cx="3416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1263240" y="6257880"/>
            <a:ext cx="34164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5400000">
            <a:off x="1164960" y="6208560"/>
            <a:ext cx="34164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5400000">
            <a:off x="1730880" y="6233040"/>
            <a:ext cx="34164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5400000">
            <a:off x="1656000" y="6257160"/>
            <a:ext cx="34164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5400000">
            <a:off x="810720" y="6213600"/>
            <a:ext cx="3430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00000">
            <a:off x="711720" y="626004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5400000">
            <a:off x="661680" y="6262560"/>
            <a:ext cx="3430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5400000">
            <a:off x="587160" y="6237000"/>
            <a:ext cx="3430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6240" y="62618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5400000">
            <a:off x="417240" y="6213240"/>
            <a:ext cx="3430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982440" y="623700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07560" y="62611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0520" y="3513240"/>
            <a:ext cx="1420560" cy="680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eap s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0520" y="4502160"/>
            <a:ext cx="1420560" cy="6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70520" y="5492880"/>
            <a:ext cx="1420560" cy="68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47800" y="3576600"/>
            <a:ext cx="1422720" cy="244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08280" y="3699000"/>
            <a:ext cx="2262240" cy="1112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62080" y="3699000"/>
            <a:ext cx="2908440" cy="2163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712960" y="3821040"/>
            <a:ext cx="1357560" cy="681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712960" y="3820680"/>
            <a:ext cx="1357560" cy="1546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712960" y="3820680"/>
            <a:ext cx="1357560" cy="2475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73080" y="4626000"/>
            <a:ext cx="2197440" cy="185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36800" y="4811760"/>
            <a:ext cx="2133720" cy="619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936800" y="4811400"/>
            <a:ext cx="2133720" cy="129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096920" y="4502160"/>
            <a:ext cx="2973600" cy="1360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62080" y="5407200"/>
            <a:ext cx="2908440" cy="455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162080" y="5925960"/>
            <a:ext cx="2908440" cy="370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-360" y="2832120"/>
            <a:ext cx="316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98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32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6840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3356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04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956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60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2560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860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072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082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3080" y="25225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84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6848640" y="3700440"/>
            <a:ext cx="342720" cy="33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6703560" y="38448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484320" y="3675960"/>
            <a:ext cx="342720" cy="38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6104880" y="3668040"/>
            <a:ext cx="342720" cy="404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7114680" y="38210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7039800" y="38440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850440" y="4626720"/>
            <a:ext cx="343080" cy="34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668916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6508440" y="4644720"/>
            <a:ext cx="343080" cy="30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633204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5400000">
            <a:off x="6104520" y="4596480"/>
            <a:ext cx="343080" cy="40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400000">
            <a:off x="7121160" y="474984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5400000">
            <a:off x="704808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91080" y="3884760"/>
            <a:ext cx="5828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5400000">
            <a:off x="740880" y="348768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642240" y="35344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5400000">
            <a:off x="592200" y="353700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400000">
            <a:off x="517680" y="351144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5400000">
            <a:off x="4464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5400000">
            <a:off x="347400" y="348768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5400000">
            <a:off x="912960" y="351144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83772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91080" y="4813200"/>
            <a:ext cx="58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91080" y="5803920"/>
            <a:ext cx="582840" cy="6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6313680" y="3846600"/>
            <a:ext cx="342720" cy="47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100160" y="2895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24720" y="446400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860600" y="436572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24720" y="5400720"/>
            <a:ext cx="2872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24720" y="352728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 rot="10800000">
            <a:off x="6948000" y="537372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240" y="404640"/>
            <a:ext cx="90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Book Antiqua"/>
              </a:rPr>
              <a:t>Data processing speed of merger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4000" y="1628640"/>
            <a:ext cx="4032000" cy="1368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46400" y="1773360"/>
            <a:ext cx="13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" y="2276640"/>
            <a:ext cx="41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100 (MB/s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&lt; 108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9280" y="4005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dditional Merger PC will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ad per one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MT rate of 10kHz in assump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larger than measured rate of 4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9272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pso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600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_hea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800000">
            <a:off x="58669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0800000">
            <a:off x="58669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0800000">
            <a:off x="58669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0800000">
            <a:off x="58669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10800000">
            <a:off x="58669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10800000">
            <a:off x="58669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10800000">
            <a:off x="58669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0800000">
            <a:off x="58669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0800000">
            <a:off x="658764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0800000">
            <a:off x="658764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0800000">
            <a:off x="658764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0800000">
            <a:off x="658764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10800000">
            <a:off x="658764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10800000">
            <a:off x="658764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0800000">
            <a:off x="658764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0800000">
            <a:off x="658764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0800000">
            <a:off x="7236000" y="15858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7236000" y="15379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7236000" y="1490760"/>
            <a:ext cx="34272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0800000">
            <a:off x="7236000" y="1390680"/>
            <a:ext cx="34272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7236000" y="13442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7236000" y="11970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7236000" y="177948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7236000" y="172836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0800000">
            <a:off x="78847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0800000">
            <a:off x="78847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0800000">
            <a:off x="78847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78847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0800000">
            <a:off x="78847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10800000">
            <a:off x="78847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0800000">
            <a:off x="78847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0800000">
            <a:off x="78847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0800000">
            <a:off x="529236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0800000">
            <a:off x="723600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0800000">
            <a:off x="529236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0800000">
            <a:off x="529236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723600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0800000">
            <a:off x="529236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766764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0800000">
            <a:off x="7236000" y="2997360"/>
            <a:ext cx="342720" cy="71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0800000">
            <a:off x="572400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0800000">
            <a:off x="766764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572400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10800000">
            <a:off x="572400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0800000">
            <a:off x="766764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572400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0800000">
            <a:off x="7236000" y="3068280"/>
            <a:ext cx="342720" cy="8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0800000">
            <a:off x="766764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0800000">
            <a:off x="6156360" y="306828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0800000">
            <a:off x="810108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0800000">
            <a:off x="6156360" y="2952720"/>
            <a:ext cx="34272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0800000">
            <a:off x="6156360" y="2893680"/>
            <a:ext cx="34272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0800000">
            <a:off x="810108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0800000">
            <a:off x="6156360" y="270792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0800000">
            <a:off x="810108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0800000">
            <a:off x="810108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0800000">
            <a:off x="658764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0800000">
            <a:off x="8532360" y="292428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0800000">
            <a:off x="658764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0800000">
            <a:off x="658764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0800000">
            <a:off x="8532360" y="285264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0800000">
            <a:off x="658764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0800000">
            <a:off x="8532360" y="3068280"/>
            <a:ext cx="34308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800000">
            <a:off x="8532360" y="299736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587640" y="1989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0872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16720" y="4221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524360" y="422100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0800000">
            <a:off x="6948000" y="6237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0800000">
            <a:off x="6948000" y="576108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0800000">
            <a:off x="6948000" y="566100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0800000">
            <a:off x="6948000" y="537336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10800000">
            <a:off x="6948000" y="5229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0800000">
            <a:off x="6948000" y="643068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0800000">
            <a:off x="6948000" y="6379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0800000">
            <a:off x="6948000" y="609264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0800000">
            <a:off x="6948000" y="594972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0800000">
            <a:off x="6948000" y="580536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6948000" y="551628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0800000">
            <a:off x="6948000" y="580824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0800000">
            <a:off x="6948000" y="508464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6948000" y="494172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1989000"/>
            <a:ext cx="648000" cy="3240360"/>
          </a:xfrm>
          <a:custGeom>
            <a:avLst/>
            <a:gdLst>
              <a:gd name="textAreaLeft" fmla="*/ 86760 w 648000"/>
              <a:gd name="textAreaRight" fmla="*/ 561240 w 648000"/>
              <a:gd name="textAreaTop" fmla="*/ 679320 h 3240360"/>
              <a:gd name="textAreaBottom" fmla="*/ 22996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8" stAng="-5400000" swAng="-5400000"/>
                <a:lnTo>
                  <a:pt x="0" y="10800"/>
                </a:lnTo>
                <a:arcTo wR="21600" hR="9058" stAng="10800000" swAng="-2991956"/>
                <a:lnTo>
                  <a:pt x="14400" y="21082"/>
                </a:lnTo>
                <a:lnTo>
                  <a:pt x="21600" y="18987"/>
                </a:lnTo>
                <a:lnTo>
                  <a:pt x="14400" y="15856"/>
                </a:lnTo>
                <a:lnTo>
                  <a:pt x="14400" y="17598"/>
                </a:lnTo>
                <a:arcTo wR="21600" hR="9058" stAng="7808044" swAng="2852763"/>
                <a:lnTo>
                  <a:pt x="100" y="9929"/>
                </a:lnTo>
                <a:arcTo wR="21600" hR="9058" stAng="-10660807" swAng="5260807"/>
                <a:close/>
              </a:path>
              <a:path fill="darkenLess" w="21600" h="21600">
                <a:moveTo>
                  <a:pt x="21600" y="0"/>
                </a:moveTo>
                <a:arcTo wR="21600" hR="9058" stAng="-5400000" swAng="-5400000"/>
                <a:lnTo>
                  <a:pt x="0" y="9058"/>
                </a:lnTo>
                <a:arcTo wR="21600" hR="9058" stAng="10800000" swAng="-139193"/>
                <a:lnTo>
                  <a:pt x="100" y="9929"/>
                </a:lnTo>
                <a:arcTo wR="21600" hR="9058" stAng="-10660807" swAng="5260807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473040" y="58104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6,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301320" y="1628640"/>
            <a:ext cx="978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New online system for SK is under development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s features ar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Record every hit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Preparing the prototype of data processing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 sorting and merging ) has been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Joint test with new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scheduled in summ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221440" y="1700280"/>
            <a:ext cx="3565440" cy="10792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1413000"/>
            <a:ext cx="4535640" cy="15843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1, DAQ upgrade in Super-Kamiok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New Electronics (Nish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Book Antiqua"/>
                <a:ea typeface="Arial Unicode MS"/>
              </a:rPr>
              <a:t>* New Online system (this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5840" y="3573360"/>
            <a:ext cx="63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he normal operation with new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and online system will start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6720" y="1846440"/>
            <a:ext cx="30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89720"/>
            <a:ext cx="8353440" cy="288720"/>
          </a:xfrm>
          <a:prstGeom prst="rightArrow">
            <a:avLst>
              <a:gd name="adj1" fmla="val 56824"/>
              <a:gd name="adj2" fmla="val 81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8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616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2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5373720"/>
            <a:ext cx="1655640" cy="216000"/>
          </a:xfrm>
          <a:custGeom>
            <a:avLst/>
            <a:gdLst>
              <a:gd name="textAreaLeft" fmla="*/ 258480 w 1655640"/>
              <a:gd name="textAreaRight" fmla="*/ 1449000 w 165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400" y="4952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537372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7080" y="46609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560" y="32846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바탕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84640"/>
            <a:ext cx="813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5877000"/>
            <a:ext cx="865080" cy="863640"/>
          </a:xfrm>
          <a:prstGeom prst="upArrowCallout">
            <a:avLst>
              <a:gd name="adj1" fmla="val 13783"/>
              <a:gd name="adj2" fmla="val 25042"/>
              <a:gd name="adj3" fmla="val 16727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780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5256360" cy="245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5373720"/>
            <a:ext cx="3745080" cy="12240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er trigg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RI decay, γray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rounding rock etc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0560" y="404640"/>
            <a:ext cx="78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2, Motivation for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0" y="1628640"/>
            <a:ext cx="76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a,  Lower</a:t>
            </a:r>
            <a:r>
              <a:rPr b="0" lang="ja-JP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energy threshold for solar neu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440" y="113652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sics in SK with new syste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27664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Determination of mixing angle 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ss difference Δ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Observe energy dependence of  neutrino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3860640"/>
            <a:ext cx="3745080" cy="9352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wer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vent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941720"/>
            <a:ext cx="287280" cy="358920"/>
          </a:xfrm>
          <a:prstGeom prst="downArrow">
            <a:avLst>
              <a:gd name="adj1" fmla="val 50000"/>
              <a:gd name="adj2" fmla="val 31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60" y="357336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c, Supernova neutrino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37520" y="47628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b, Relic Supernova neutr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6160" y="1989000"/>
            <a:ext cx="94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00μs-delayed gamma ray can be used for reducing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90560" y="2852640"/>
            <a:ext cx="7129440" cy="647640"/>
            <a:chOff x="1690560" y="2852640"/>
            <a:chExt cx="7129440" cy="647640"/>
          </a:xfrm>
        </p:grpSpPr>
        <p:sp>
          <p:nvSpPr>
            <p:cNvPr id="182" name=""/>
            <p:cNvSpPr/>
            <p:nvPr/>
          </p:nvSpPr>
          <p:spPr>
            <a:xfrm>
              <a:off x="2843280" y="2852640"/>
              <a:ext cx="597672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920" y="2925720"/>
              <a:ext cx="58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Long time for trigger window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0560" y="31399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4680" y="112536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Background neutrino from supern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which ever occurred in the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80400" y="476280"/>
            <a:ext cx="2654640" cy="1386720"/>
            <a:chOff x="6080400" y="476280"/>
            <a:chExt cx="2654640" cy="1386720"/>
          </a:xfrm>
        </p:grpSpPr>
        <p:sp>
          <p:nvSpPr>
            <p:cNvPr id="187" name=""/>
            <p:cNvSpPr/>
            <p:nvPr/>
          </p:nvSpPr>
          <p:spPr>
            <a:xfrm>
              <a:off x="6156000" y="476280"/>
              <a:ext cx="64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3640" y="1052640"/>
              <a:ext cx="14436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9640" y="1123920"/>
              <a:ext cx="50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2920" y="112392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5636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78440" y="99072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4" y="92"/>
                  </a:moveTo>
                  <a:cubicBezTo>
                    <a:pt x="7" y="48"/>
                    <a:pt x="0" y="48"/>
                    <a:pt x="37" y="53"/>
                  </a:cubicBezTo>
                  <a:cubicBezTo>
                    <a:pt x="82" y="48"/>
                    <a:pt x="60" y="50"/>
                    <a:pt x="73" y="14"/>
                  </a:cubicBezTo>
                  <a:cubicBezTo>
                    <a:pt x="78" y="0"/>
                    <a:pt x="120" y="5"/>
                    <a:pt x="1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2360" y="1123920"/>
              <a:ext cx="142200" cy="14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5964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6560" y="98100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1170000"/>
              <a:ext cx="272520" cy="428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71" y="0"/>
                  </a:moveTo>
                  <a:cubicBezTo>
                    <a:pt x="61" y="3"/>
                    <a:pt x="44" y="15"/>
                    <a:pt x="44" y="15"/>
                  </a:cubicBezTo>
                  <a:cubicBezTo>
                    <a:pt x="0" y="81"/>
                    <a:pt x="82" y="73"/>
                    <a:pt x="119" y="75"/>
                  </a:cubicBezTo>
                  <a:cubicBezTo>
                    <a:pt x="140" y="82"/>
                    <a:pt x="143" y="112"/>
                    <a:pt x="125" y="126"/>
                  </a:cubicBezTo>
                  <a:cubicBezTo>
                    <a:pt x="116" y="133"/>
                    <a:pt x="94" y="135"/>
                    <a:pt x="83" y="138"/>
                  </a:cubicBezTo>
                  <a:cubicBezTo>
                    <a:pt x="77" y="142"/>
                    <a:pt x="71" y="146"/>
                    <a:pt x="65" y="150"/>
                  </a:cubicBezTo>
                  <a:cubicBezTo>
                    <a:pt x="62" y="152"/>
                    <a:pt x="56" y="156"/>
                    <a:pt x="56" y="156"/>
                  </a:cubicBezTo>
                  <a:cubicBezTo>
                    <a:pt x="39" y="206"/>
                    <a:pt x="124" y="194"/>
                    <a:pt x="146" y="195"/>
                  </a:cubicBezTo>
                  <a:cubicBezTo>
                    <a:pt x="172" y="234"/>
                    <a:pt x="137" y="231"/>
                    <a:pt x="113" y="234"/>
                  </a:cubicBezTo>
                  <a:cubicBezTo>
                    <a:pt x="107" y="252"/>
                    <a:pt x="110" y="240"/>
                    <a:pt x="11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38760" y="15559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26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1000" y="148428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80400" y="54792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33800" y="692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1440" y="76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472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800" y="547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8040" y="472428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y are very rare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29264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information for constructing supernov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760" y="551664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not miss SN events when i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6019920"/>
            <a:ext cx="7129440" cy="647640"/>
            <a:chOff x="1692360" y="6019920"/>
            <a:chExt cx="7129440" cy="647640"/>
          </a:xfrm>
        </p:grpSpPr>
        <p:sp>
          <p:nvSpPr>
            <p:cNvPr id="209" name=""/>
            <p:cNvSpPr/>
            <p:nvPr/>
          </p:nvSpPr>
          <p:spPr>
            <a:xfrm>
              <a:off x="2844720" y="6019920"/>
              <a:ext cx="597708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75440" y="6093000"/>
              <a:ext cx="50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High availability system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92360" y="6308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156360" y="62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000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2M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16200000">
            <a:off x="2050560" y="621360"/>
            <a:ext cx="144720" cy="3600360"/>
          </a:xfrm>
          <a:custGeom>
            <a:avLst/>
            <a:gdLst>
              <a:gd name="textAreaLeft" fmla="*/ 360 w 144720"/>
              <a:gd name="textAreaRight" fmla="*/ 52560 w 14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7"/>
                </a:lnTo>
                <a:cubicBezTo>
                  <a:pt x="10800" y="9557"/>
                  <a:pt x="16200" y="10457"/>
                  <a:pt x="21600" y="10457"/>
                </a:cubicBezTo>
                <a:cubicBezTo>
                  <a:pt x="16200" y="10457"/>
                  <a:pt x="10800" y="11357"/>
                  <a:pt x="10800" y="122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3440" y="62064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online system should b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080" y="4292640"/>
            <a:ext cx="54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High availabilit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he observation of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960" y="1557360"/>
            <a:ext cx="84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Capable of high rate of trigger (not synchro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detection of faint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256536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 energy solar neutrino, SN, mu-decay, n-captured 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600" y="3233880"/>
            <a:ext cx="54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trigger-les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 all the hits from 13000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35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040" y="6238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3, Record Every Hi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2480" y="14158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6064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 of h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ns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eds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060640"/>
            <a:ext cx="3889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20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 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060640"/>
            <a:ext cx="216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120" y="37893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3573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08000" y="2997360"/>
            <a:ext cx="432000" cy="576000"/>
            <a:chOff x="1908000" y="2997360"/>
            <a:chExt cx="432000" cy="576000"/>
          </a:xfrm>
        </p:grpSpPr>
        <p:sp>
          <p:nvSpPr>
            <p:cNvPr id="234" name=""/>
            <p:cNvSpPr/>
            <p:nvPr/>
          </p:nvSpPr>
          <p:spPr>
            <a:xfrm>
              <a:off x="1908000" y="2997360"/>
              <a:ext cx="43200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9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0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4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5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5805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225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220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4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280" y="436572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event trigger -&gt;  Use periodic trigger from 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4437000"/>
            <a:ext cx="7272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638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8320" y="618480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pecified events by intelligent software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25800" y="1484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3000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24360" y="2997360"/>
            <a:ext cx="431640" cy="576000"/>
            <a:chOff x="3924360" y="2997360"/>
            <a:chExt cx="431640" cy="576000"/>
          </a:xfrm>
        </p:grpSpPr>
        <p:sp>
          <p:nvSpPr>
            <p:cNvPr id="269" name=""/>
            <p:cNvSpPr/>
            <p:nvPr/>
          </p:nvSpPr>
          <p:spPr>
            <a:xfrm>
              <a:off x="3924360" y="2997360"/>
              <a:ext cx="43164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95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6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0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1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08720" y="2997360"/>
            <a:ext cx="431640" cy="576000"/>
            <a:chOff x="5508720" y="2997360"/>
            <a:chExt cx="431640" cy="576000"/>
          </a:xfrm>
        </p:grpSpPr>
        <p:sp>
          <p:nvSpPr>
            <p:cNvPr id="275" name=""/>
            <p:cNvSpPr/>
            <p:nvPr/>
          </p:nvSpPr>
          <p:spPr>
            <a:xfrm>
              <a:off x="55087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08720" y="2997360"/>
              <a:ext cx="431640" cy="576000"/>
              <a:chOff x="5508720" y="2997360"/>
              <a:chExt cx="431640" cy="576000"/>
            </a:xfrm>
          </p:grpSpPr>
          <p:sp>
            <p:nvSpPr>
              <p:cNvPr id="277" name=""/>
              <p:cNvSpPr/>
              <p:nvPr/>
            </p:nvSpPr>
            <p:spPr>
              <a:xfrm>
                <a:off x="5508720" y="2997360"/>
                <a:ext cx="431640" cy="5760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800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5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243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960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997360"/>
            <a:ext cx="3816360" cy="576000"/>
            <a:chOff x="1835280" y="2997360"/>
            <a:chExt cx="3816360" cy="576000"/>
          </a:xfrm>
        </p:grpSpPr>
        <p:sp>
          <p:nvSpPr>
            <p:cNvPr id="283" name=""/>
            <p:cNvSpPr/>
            <p:nvPr/>
          </p:nvSpPr>
          <p:spPr>
            <a:xfrm>
              <a:off x="3851280" y="2997360"/>
              <a:ext cx="432000" cy="57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292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9420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7280" y="3068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8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364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5092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6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4560" y="2997360"/>
              <a:ext cx="432000" cy="576000"/>
              <a:chOff x="2914560" y="2997360"/>
              <a:chExt cx="432000" cy="576000"/>
            </a:xfrm>
          </p:grpSpPr>
          <p:sp>
            <p:nvSpPr>
              <p:cNvPr id="293" name=""/>
              <p:cNvSpPr/>
              <p:nvPr/>
            </p:nvSpPr>
            <p:spPr>
              <a:xfrm>
                <a:off x="291456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862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574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30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22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490920" y="2997360"/>
              <a:ext cx="432000" cy="576000"/>
              <a:chOff x="3490920" y="2997360"/>
              <a:chExt cx="432000" cy="57600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092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33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06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78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219640" y="2997360"/>
              <a:ext cx="432000" cy="576000"/>
              <a:chOff x="5219640" y="2997360"/>
              <a:chExt cx="432000" cy="576000"/>
            </a:xfrm>
          </p:grpSpPr>
          <p:sp>
            <p:nvSpPr>
              <p:cNvPr id="305" name=""/>
              <p:cNvSpPr/>
              <p:nvPr/>
            </p:nvSpPr>
            <p:spPr>
              <a:xfrm>
                <a:off x="521964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9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3564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0728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835280" y="2997360"/>
              <a:ext cx="431640" cy="576000"/>
              <a:chOff x="1835280" y="2997360"/>
              <a:chExt cx="431640" cy="5760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35280" y="2997360"/>
                <a:ext cx="43164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6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77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0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22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98920" y="2997360"/>
              <a:ext cx="431640" cy="576000"/>
              <a:chOff x="4498920" y="2997360"/>
              <a:chExt cx="431640" cy="576000"/>
            </a:xfrm>
          </p:grpSpPr>
          <p:sp>
            <p:nvSpPr>
              <p:cNvPr id="317" name=""/>
              <p:cNvSpPr/>
              <p:nvPr/>
            </p:nvSpPr>
            <p:spPr>
              <a:xfrm>
                <a:off x="4498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498920" y="2997360"/>
                <a:ext cx="431640" cy="576000"/>
                <a:chOff x="4498920" y="2997360"/>
                <a:chExt cx="431640" cy="57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9892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57020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4148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71456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78620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2338560" y="2997360"/>
              <a:ext cx="431640" cy="576000"/>
              <a:chOff x="2338560" y="2997360"/>
              <a:chExt cx="431640" cy="576000"/>
            </a:xfrm>
          </p:grpSpPr>
          <p:sp>
            <p:nvSpPr>
              <p:cNvPr id="325" name=""/>
              <p:cNvSpPr/>
              <p:nvPr/>
            </p:nvSpPr>
            <p:spPr>
              <a:xfrm>
                <a:off x="2338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2338560" y="2997360"/>
                <a:ext cx="431640" cy="576000"/>
                <a:chOff x="2338560" y="2997360"/>
                <a:chExt cx="431640" cy="576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33856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0984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8112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5420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2584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6711480" y="26575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Times New Roman"/>
              </a:rPr>
              <a:t>High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43280" y="2997360"/>
            <a:ext cx="2305080" cy="576000"/>
            <a:chOff x="2843280" y="2997360"/>
            <a:chExt cx="2305080" cy="576000"/>
          </a:xfrm>
        </p:grpSpPr>
        <p:sp>
          <p:nvSpPr>
            <p:cNvPr id="334" name=""/>
            <p:cNvSpPr/>
            <p:nvPr/>
          </p:nvSpPr>
          <p:spPr>
            <a:xfrm>
              <a:off x="2843280" y="2997360"/>
              <a:ext cx="2305080" cy="576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456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8620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3068640"/>
              <a:ext cx="792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0560" y="3284280"/>
              <a:ext cx="7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3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928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42000" y="316080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ong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14400" y="5805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t data contains timing information from 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616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0" y="5734080"/>
            <a:ext cx="4321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2200" y="587700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2200" y="450864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2200" y="3860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2200" y="321300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2200" y="249228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2200" y="1844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8920" y="587700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8920" y="450864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8920" y="3860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8920" y="321300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58920" y="249228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58920" y="1844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4200" y="587700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54200" y="450864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54200" y="3860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4200" y="321300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54200" y="249228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4200" y="1844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0920" y="587700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450864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50920" y="3860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50920" y="321300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50920" y="249228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50920" y="1844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Data processing in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06560" y="2278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06560" y="292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560" y="3645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6560" y="4294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6560" y="4943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06560" y="63118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1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1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85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69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728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82560" y="472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0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1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620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03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45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62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25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25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7964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8256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764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1928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22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6920" y="407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8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22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1636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0560" y="2349360"/>
            <a:ext cx="1152360" cy="30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11640" y="2058840"/>
            <a:ext cx="1404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2920" y="270684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2920" y="3427560"/>
            <a:ext cx="1260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82920" y="3860640"/>
            <a:ext cx="12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292280"/>
            <a:ext cx="11887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82920" y="522720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2920" y="285264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2920" y="292428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299736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2920" y="306864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2920" y="3139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2920" y="3355920"/>
            <a:ext cx="50328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4290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22920" y="35002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22920" y="371628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2920" y="378792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2920" y="38592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2920" y="39304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22920" y="422100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2920" y="429264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22920" y="4363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2920" y="4148280"/>
            <a:ext cx="503280" cy="7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22920" y="5154480"/>
            <a:ext cx="5032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22920" y="508320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2920" y="5226120"/>
            <a:ext cx="503280" cy="7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2920" y="501012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5840" y="1844640"/>
            <a:ext cx="504360" cy="372960"/>
            <a:chOff x="285840" y="1844640"/>
            <a:chExt cx="504360" cy="372960"/>
          </a:xfrm>
        </p:grpSpPr>
        <p:sp>
          <p:nvSpPr>
            <p:cNvPr id="434" name=""/>
            <p:cNvSpPr/>
            <p:nvPr/>
          </p:nvSpPr>
          <p:spPr>
            <a:xfrm>
              <a:off x="285840" y="1844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4840" y="1951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5840" y="2492280"/>
            <a:ext cx="504360" cy="373320"/>
            <a:chOff x="285840" y="2492280"/>
            <a:chExt cx="504360" cy="373320"/>
          </a:xfrm>
        </p:grpSpPr>
        <p:sp>
          <p:nvSpPr>
            <p:cNvPr id="437" name=""/>
            <p:cNvSpPr/>
            <p:nvPr/>
          </p:nvSpPr>
          <p:spPr>
            <a:xfrm>
              <a:off x="285840" y="249228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4840" y="259920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40" y="3213000"/>
            <a:ext cx="504360" cy="373320"/>
            <a:chOff x="285840" y="3213000"/>
            <a:chExt cx="504360" cy="373320"/>
          </a:xfrm>
        </p:grpSpPr>
        <p:sp>
          <p:nvSpPr>
            <p:cNvPr id="440" name=""/>
            <p:cNvSpPr/>
            <p:nvPr/>
          </p:nvSpPr>
          <p:spPr>
            <a:xfrm>
              <a:off x="285840" y="321300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840" y="331992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5840" y="3860640"/>
            <a:ext cx="504360" cy="373320"/>
            <a:chOff x="285840" y="3860640"/>
            <a:chExt cx="504360" cy="373320"/>
          </a:xfrm>
        </p:grpSpPr>
        <p:sp>
          <p:nvSpPr>
            <p:cNvPr id="443" name=""/>
            <p:cNvSpPr/>
            <p:nvPr/>
          </p:nvSpPr>
          <p:spPr>
            <a:xfrm>
              <a:off x="285840" y="386064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40" y="396756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85840" y="4508640"/>
            <a:ext cx="504360" cy="372960"/>
            <a:chOff x="285840" y="4508640"/>
            <a:chExt cx="504360" cy="372960"/>
          </a:xfrm>
        </p:grpSpPr>
        <p:sp>
          <p:nvSpPr>
            <p:cNvPr id="446" name=""/>
            <p:cNvSpPr/>
            <p:nvPr/>
          </p:nvSpPr>
          <p:spPr>
            <a:xfrm>
              <a:off x="285840" y="4508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4840" y="4615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5840" y="5877000"/>
            <a:ext cx="504360" cy="372960"/>
            <a:chOff x="285840" y="5877000"/>
            <a:chExt cx="504360" cy="372960"/>
          </a:xfrm>
        </p:grpSpPr>
        <p:sp>
          <p:nvSpPr>
            <p:cNvPr id="449" name=""/>
            <p:cNvSpPr/>
            <p:nvPr/>
          </p:nvSpPr>
          <p:spPr>
            <a:xfrm>
              <a:off x="285840" y="58770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840" y="59839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3200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200" y="641196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3000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67280" y="20588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33200" y="981000"/>
            <a:ext cx="432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luding tim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(not in time 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4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2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892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3880" y="11365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9080" y="429084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59840" y="5805360"/>
            <a:ext cx="43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rge and sort in tim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hit from 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765840" y="2997360"/>
            <a:ext cx="2378160" cy="434880"/>
            <a:chOff x="6765840" y="2997360"/>
            <a:chExt cx="2378160" cy="434880"/>
          </a:xfrm>
        </p:grpSpPr>
        <p:sp>
          <p:nvSpPr>
            <p:cNvPr id="463" name=""/>
            <p:cNvSpPr/>
            <p:nvPr/>
          </p:nvSpPr>
          <p:spPr>
            <a:xfrm>
              <a:off x="8421480" y="2997360"/>
              <a:ext cx="503280" cy="432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18200" y="2997360"/>
              <a:ext cx="503280" cy="432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13480" y="2997360"/>
              <a:ext cx="5032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10200" y="2997360"/>
              <a:ext cx="5032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765840" y="2997360"/>
              <a:ext cx="2378160" cy="434880"/>
              <a:chOff x="6765840" y="2997360"/>
              <a:chExt cx="2378160" cy="434880"/>
            </a:xfrm>
          </p:grpSpPr>
          <p:sp>
            <p:nvSpPr>
              <p:cNvPr id="468" name=""/>
              <p:cNvSpPr/>
              <p:nvPr/>
            </p:nvSpPr>
            <p:spPr>
              <a:xfrm>
                <a:off x="6767640" y="34308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04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1200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0728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65840" y="3430800"/>
                <a:ext cx="23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5020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0256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7822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67640" y="34290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8836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0728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20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4364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5672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99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7564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4072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4364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8036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91020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7384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38920" y="32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4220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7856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804000" y="393372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6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3272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451640" y="3645000"/>
            <a:ext cx="503280" cy="1439640"/>
            <a:chOff x="7451640" y="3645000"/>
            <a:chExt cx="503280" cy="1439640"/>
          </a:xfrm>
        </p:grpSpPr>
        <p:sp>
          <p:nvSpPr>
            <p:cNvPr id="509" name=""/>
            <p:cNvSpPr/>
            <p:nvPr/>
          </p:nvSpPr>
          <p:spPr>
            <a:xfrm>
              <a:off x="7451640" y="378936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386244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51640" y="393372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1640" y="4724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407520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1640" y="436392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51640" y="479736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1640" y="42195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51640" y="414828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51640" y="443700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640" y="486900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4940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51640" y="450864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51640" y="4290840"/>
              <a:ext cx="503280" cy="7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501336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1640" y="458136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51640" y="465300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1640" y="40053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1640" y="371628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51640" y="364500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502240" y="4941720"/>
            <a:ext cx="180036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0044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80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48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0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chematic view of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2280" y="6093000"/>
            <a:ext cx="77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, MergerPC : Xeon 3GHz Dual Core Dual CPU  Memory 2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16000" y="1500120"/>
            <a:ext cx="289080" cy="214560"/>
            <a:chOff x="1116000" y="1500120"/>
            <a:chExt cx="289080" cy="214560"/>
          </a:xfrm>
        </p:grpSpPr>
        <p:sp>
          <p:nvSpPr>
            <p:cNvPr id="536" name=""/>
            <p:cNvSpPr/>
            <p:nvPr/>
          </p:nvSpPr>
          <p:spPr>
            <a:xfrm>
              <a:off x="1116000" y="150012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24360" y="156168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643280" y="1771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6160" y="2709720"/>
            <a:ext cx="25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16000" y="1773360"/>
            <a:ext cx="289080" cy="214200"/>
            <a:chOff x="1116000" y="1773360"/>
            <a:chExt cx="289080" cy="214200"/>
          </a:xfrm>
        </p:grpSpPr>
        <p:sp>
          <p:nvSpPr>
            <p:cNvPr id="541" name=""/>
            <p:cNvSpPr/>
            <p:nvPr/>
          </p:nvSpPr>
          <p:spPr>
            <a:xfrm>
              <a:off x="1116000" y="177336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24360" y="183456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16000" y="2060640"/>
            <a:ext cx="289080" cy="214200"/>
            <a:chOff x="1116000" y="2060640"/>
            <a:chExt cx="289080" cy="214200"/>
          </a:xfrm>
        </p:grpSpPr>
        <p:sp>
          <p:nvSpPr>
            <p:cNvPr id="544" name=""/>
            <p:cNvSpPr/>
            <p:nvPr/>
          </p:nvSpPr>
          <p:spPr>
            <a:xfrm>
              <a:off x="1116000" y="206064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24360" y="212184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16000" y="2349360"/>
            <a:ext cx="289080" cy="214560"/>
            <a:chOff x="1116000" y="2349360"/>
            <a:chExt cx="289080" cy="214560"/>
          </a:xfrm>
        </p:grpSpPr>
        <p:sp>
          <p:nvSpPr>
            <p:cNvPr id="547" name=""/>
            <p:cNvSpPr/>
            <p:nvPr/>
          </p:nvSpPr>
          <p:spPr>
            <a:xfrm>
              <a:off x="1116000" y="234936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24360" y="241092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16000" y="2637000"/>
            <a:ext cx="289080" cy="214200"/>
            <a:chOff x="1116000" y="2637000"/>
            <a:chExt cx="289080" cy="214200"/>
          </a:xfrm>
        </p:grpSpPr>
        <p:sp>
          <p:nvSpPr>
            <p:cNvPr id="550" name=""/>
            <p:cNvSpPr/>
            <p:nvPr/>
          </p:nvSpPr>
          <p:spPr>
            <a:xfrm>
              <a:off x="1116000" y="263700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24360" y="269820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52720" y="148608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3080" y="50133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05560" y="5013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05080" y="1557360"/>
            <a:ext cx="64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405080" y="1628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405080" y="1701360"/>
            <a:ext cx="6476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405080" y="1773000"/>
            <a:ext cx="6476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405080" y="1844280"/>
            <a:ext cx="647640" cy="86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3520" y="148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02960" y="50133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1636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916360" y="1628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9800" y="1197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43320" y="11955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QB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16360" y="17733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133992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148428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43640" y="148428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2720" y="191772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52720" y="234936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2720" y="278136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52720" y="321300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16360" y="191592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916360" y="206028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73520" y="220356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73520" y="292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1280" y="249228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2637000"/>
            <a:ext cx="86364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43640" y="2637000"/>
            <a:ext cx="1008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1280" y="364500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35640" y="378936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78936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6240" y="494172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177156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3280" y="1844640"/>
            <a:ext cx="576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643280" y="1917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643280" y="29955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643280" y="2060640"/>
            <a:ext cx="6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3280" y="24192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3280" y="2490840"/>
            <a:ext cx="57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32115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02480" y="2924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40000" y="206064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a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02480" y="184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02480" y="4149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7280" y="4579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6000" y="4508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3280" y="40291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43280" y="450864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2280" y="357336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CP implemented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43280" y="1052640"/>
            <a:ext cx="0" cy="3744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356000" y="5589720"/>
            <a:ext cx="4537080" cy="107928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625000">
            <a:off x="4859280" y="29221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920" y="55260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Large data flow of the new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19280" y="191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0574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0720" y="5661000"/>
            <a:ext cx="42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GbE or 10Gb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227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63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9280" y="299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335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9280" y="371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19280" y="407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9280" y="443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19280" y="479412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19280" y="515448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40360" y="2419200"/>
            <a:ext cx="93492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40360" y="357192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5492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5492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0560" y="2295360"/>
            <a:ext cx="2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00000">
            <a:off x="6659280" y="2637000"/>
            <a:ext cx="208764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800000">
            <a:off x="155520" y="2433240"/>
            <a:ext cx="17416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kHz/PM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2843280" y="241956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8360" y="1843200"/>
            <a:ext cx="504360" cy="372960"/>
            <a:chOff x="468360" y="1843200"/>
            <a:chExt cx="504360" cy="372960"/>
          </a:xfrm>
        </p:grpSpPr>
        <p:sp>
          <p:nvSpPr>
            <p:cNvPr id="629" name=""/>
            <p:cNvSpPr/>
            <p:nvPr/>
          </p:nvSpPr>
          <p:spPr>
            <a:xfrm>
              <a:off x="468360" y="18432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7360" y="19501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1116000" y="21301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258920" y="220320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536200">
            <a:off x="2484000" y="2130480"/>
            <a:ext cx="647640" cy="142920"/>
          </a:xfrm>
          <a:prstGeom prst="rightArrow">
            <a:avLst>
              <a:gd name="adj1" fmla="val 50000"/>
              <a:gd name="adj2" fmla="val 113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382400">
            <a:off x="2711160" y="25066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332400">
            <a:off x="2553840" y="271260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20714400">
            <a:off x="2556000" y="299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35280" y="2490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43280" y="357192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35280" y="364320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200" y="169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41800" y="1627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Base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93440" y="1627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800000">
            <a:off x="3623760" y="2515680"/>
            <a:ext cx="194472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MB/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5363640" y="3643200"/>
            <a:ext cx="1008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800000">
            <a:off x="1403280" y="1987200"/>
            <a:ext cx="14032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MB/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714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9570800">
            <a:off x="6084720" y="2852280"/>
            <a:ext cx="86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472284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2843280" y="472284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35280" y="47941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8818400">
            <a:off x="4989600" y="44510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6360" y="350028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072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836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27640" y="1484280"/>
            <a:ext cx="259236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=8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640" y="602136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measured rate i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6:03:15Z</dcterms:created>
  <dc:creator>yamada</dc:creator>
  <dc:description/>
  <dc:language>en-US</dc:language>
  <cp:lastModifiedBy>yamada</cp:lastModifiedBy>
  <dcterms:modified xsi:type="dcterms:W3CDTF">2007-03-27T10:08:47Z</dcterms:modified>
  <cp:revision>245</cp:revision>
  <dc:subject/>
  <dc:title>PowerPoint Presentation</dc:title>
</cp:coreProperties>
</file>